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84AD-9130-4C18-B7D4-C1160681988A}" type="slidenum">
              <a:rPr b="0" lang="it-IT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E29D-BFF1-47E4-A081-2D2389676CA6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9EE4-E600-4966-A7BC-0FB6CCB30B9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89E8-E2A3-41EA-B233-9D3C7105456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2BB0-C232-4391-874F-3FACAE6F33F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223C-62AE-4938-A719-135EBAB76D1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D6B5-4A9A-45A8-AE2D-363B64A1E28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0057-37E7-4E9C-9C89-386DB5029F8B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CE1D-6717-4ECA-A7DD-F89E756683C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483B-2D55-4940-8D01-DF93CC4C009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16EB-E9EC-4502-A203-E0D8581258A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B493-F652-4E4F-8B69-95FED4F5B08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F163-4472-4FBF-9A29-0412220DC4E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BCF2-458C-4757-90B6-023E3652D230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9400-00DD-4377-A1AE-A884F82FAC5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C600-9F22-4AF6-9E4A-A6B3081355D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2B01-C81B-4839-A10A-EE5E05374A6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86AE-FB46-4B8E-913B-49F0CDE82E4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A7EB-DC6F-4F1D-A359-58C48A8F099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5B6C-0C9F-460C-B26A-A973F0CBC085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F8F9-8941-4D01-945B-48C85ADB225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3203-0CC6-41FE-87B3-AABBDC2E773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4E14-BEAE-480C-96CE-D86A7751497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A784-23D0-4157-9DD7-2B06B614313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C58C-2C61-4E0E-91F8-84F090ABD54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754A-BC46-4B76-833B-EA4E244AF23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FE3B-D453-4AE3-B9FD-BB4437EE975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FBB4-4626-46DD-B886-36897CCB47D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2E9C-71DD-4906-89CF-2173F3A0A45E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7E9D-4F2F-43C4-8DC6-01FBAC999B3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4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F9D2-C0C3-4E9F-9229-443DC7A4E24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0D6F-9D41-4753-B799-B456FE2ADD4F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D2CC-9A12-4B77-8208-202A1B44019A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1BD0-0D16-42F8-9EF6-E6F010BCF04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96D8-B436-4BA3-9D8A-1F2B9F8DC7C7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6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62D2-D571-4EC0-94C5-5A7C4D18009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D153-03CB-46CC-94AB-C1EBC4E732F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E22D-01FA-4F42-8865-C1D1BC11FAC9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D0B7-C88A-4683-9AFE-C85C5D48430C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8E5A-5D45-463F-B414-9F60ED1ED9B7}" type="slidenum">
              <a:rPr b="0" lang="it-IT" sz="12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D0A6-64D4-4770-BC76-8AEAB74EF7C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2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4776-88A5-4283-A871-43497BDE84C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5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C7A0-67AB-49E0-BA39-5E622E5AAB3D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98A4-84C4-415B-94C8-71E302C13B21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5448-2AA8-4657-8A47-2AADCA6782E2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AE7C-11B4-444A-950B-885DCCE021A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51CF-01A1-414D-BCC2-487E8546A7C3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1112-ECB6-4C66-BF88-113AD87A96F8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3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1E6E-9D98-43B8-8A6A-E17DF826A5E4}" type="slidenum">
              <a:rPr b="0" lang="it-IT" sz="1200" spc="-1" strike="noStrike">
                <a:solidFill>
                  <a:srgbClr val="40458c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BC1-61AB-4E95-A829-8890F062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240-6532-46FA-AB84-BE41EF03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463-74E0-4538-A3D8-D6585C04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900-405D-43F7-A377-95DED667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D412-D704-49B7-AED1-B69C8157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26D2-C050-4E23-9C6B-D418896D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BAE9-4533-481F-961B-E221FA0B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C45C-B5F6-46E7-80C3-8F04499D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5B61-58E1-4F1B-8BE3-2CCE6080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0B9B-9BD9-4A19-9421-14B3B23C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7D96-0E38-41B8-B43D-B3004DF1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449-2EBB-4FD2-BA4D-A5D3215A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67D5-B993-4DA6-A2C3-9775C3A9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C075-682B-425A-8024-91794F6B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F2E4-975A-4CD6-9333-4DC33245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9A9D-8C29-4FB3-AB9E-56C3F12C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FC68-FD27-44DE-8EF1-6202D32E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B25-F7CD-426B-8F8D-9B522B30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43E-5445-4012-86AC-E9713823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D985-13BA-41B3-915A-EEFF5D75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5730-AC55-41E5-BA0F-BB9A2226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5EC-5711-4E34-83F8-CEF35D83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623-0B26-4A3F-B34C-FDF71305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F77-3E83-48FE-BEE0-291CF81A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CDC3-A442-4549-BC6C-F9CD06C43A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2137-54C9-4E3D-A2D1-B9ADDB1F8D7C}" type="slidenum"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09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74BA-F37B-4CB5-99F5-BA5A2D5F783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PAS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–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Univ. di Pisa</a:t>
            </a:r>
            <a:br>
              <a:rPr sz="23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Corso di Didattica Generale e Pedagogia Sperimentale</a:t>
            </a:r>
            <a:br>
              <a:rPr sz="2000"/>
            </a:b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.A. 2013/2014</a:t>
            </a:r>
            <a:br>
              <a:rPr sz="2300"/>
            </a:br>
            <a:br>
              <a:rPr sz="23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ordinamenti:</a:t>
            </a:r>
            <a:br>
              <a:rPr sz="4400"/>
            </a:br>
            <a:r>
              <a:rPr b="0" lang="it-IT" sz="2700" spc="-1" strike="noStrike">
                <a:solidFill>
                  <a:srgbClr val="4b34f4"/>
                </a:solidFill>
                <a:latin typeface="Tahoma"/>
              </a:rPr>
              <a:t>quadro normativo di riferimento</a:t>
            </a:r>
            <a:r>
              <a:rPr b="0" lang="it-IT" sz="27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38080" y="330948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40458c"/>
                </a:solidFill>
                <a:latin typeface="Tahoma"/>
              </a:rPr>
              <a:t>Il sistema educativo di istruzione e form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Davide Capperucc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br>
              <a:rPr sz="60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38080" y="149976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Nel tempo prolungato il monte ore e' determinato mediamente in 36 ore settimanali, elevabili fino a 40, comprensive delle ore destinate agli insegnamenti e alle attivita' e al tempo dedicato alla mens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lassi a «tempo prolungato» sono autorizzate nei limiti della dotazione organica assegnata a ciascuna provinc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5720-8C64-4057-BB7B-852AFFDAF1F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Corsi ad indirizzo musical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I corsi ad indirizzo musicale si svolgono oltre l'orario obbligatorio delle lezion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Valorizzazione dell'apprendimento pratico, anche con l'ausilio di laboratori musicali, nei limiti delle risorse esistenti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F172-9491-470B-950D-11C13E765F4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nglese potenzia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A decorrere dall'anno scolastico 2009/2010, a richiesta delle famiglie e compatibilmente con le disponibilita' di organico e l'assenza di esubero dei docenti della seconda lingua comunitaria, e‘ introdotto l'insegnamento dell'inglese potenziato anche utilizzando le 2 ore di insegnamento della seconda lingua comunita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B7CB-EBBD-4417-811A-2517C6F5663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7030a0"/>
                </a:solidFill>
                <a:latin typeface="Tahoma"/>
              </a:rPr>
              <a:t>Seconda lingua comunitaria per Italiano L2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ore della seconda lingua comunitaria sono utilizzate anche per potenziare l'insegnamento della lingua italiana per gli alunni stranieri non in possesso delle necessarie conoscenze e competenze nella medesima lingua italiana nel rispetto dell'autonomia delle scuo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CA2D-7940-4492-897E-7DC47E77CBD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1F04-7D71-4A10-BE2D-52985C6B7A8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Riordino secondaria II grado: </a:t>
            </a:r>
            <a:br>
              <a:rPr sz="3100"/>
            </a:b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autonomia -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500120"/>
            <a:ext cx="769608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Istituti tecnici e professional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Quota di autonomia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20% dei curricoli (per tutto il quinquennio) per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potenziare gli insegnamenti obbligatori per tutti gli stud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attivare ulteriori insegnamen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Vincoli: Contingente di organico assegnato annualmen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primo b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alcolo su orario complessivo delle lezioni del successivo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ienni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iascuna disciplina non può essere decurtata per pi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20%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evisto dai quadri orar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BB00-5A87-44A6-86EF-42E11561BAA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 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64304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ce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Quota dei piani di studio rimessa alle singole istituzioni scolastich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del monte ore complessivo nel primo biennio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al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30%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nel secondo biennio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Fino </a:t>
            </a:r>
            <a:r>
              <a:rPr b="1" lang="it-IT" sz="1600" spc="-1" strike="noStrike">
                <a:solidFill>
                  <a:srgbClr val="ff0000"/>
                </a:solidFill>
                <a:latin typeface="Tahoma"/>
              </a:rPr>
              <a:t>20%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 quinto ann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Vincoli: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contingente di organico ad esse annualmente assegnat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richieste degli studenti e delle loro famigl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orario previsto dal piano di studio di ciascuna disciplina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on può essere ridotto in misura  superiore a 1/3 nell'arco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dei cinque anni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non possono essere soppresse le discipline previste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ll'ultimo anno di corso nei piani di stud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5198-38B2-4068-A46F-5FA3F704DBA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Con il riordino: autonomia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–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flessibilit</a:t>
            </a:r>
            <a:r>
              <a:rPr b="0" lang="it-IT" sz="31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 - 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it-IT" sz="3100" spc="-1" strike="noStrike">
                <a:solidFill>
                  <a:srgbClr val="660066"/>
                </a:solidFill>
                <a:latin typeface="Tahoma"/>
              </a:rPr>
              <a:t>quote</a:t>
            </a:r>
            <a:br>
              <a:rPr sz="3100"/>
            </a:br>
            <a:endParaRPr b="0" lang="en-US" sz="3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7896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Spazi di flessibilit</a:t>
            </a:r>
            <a:r>
              <a:rPr b="1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possibilit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di articolare in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opzion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 le aree di indirizzo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- corrispondere alle esigenze del territorio e ai fabbisogni formativi espressi dal mondo del lavoro e delle professioni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sistenza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: 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0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Istituti professionali: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a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con riferimento all'orario annuale delle lezioni,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35% nel secondo biennio 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entro il 40% nell'ultimo anno;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1" lang="it-IT" sz="1500" spc="-1" strike="noStrike">
                <a:solidFill>
                  <a:srgbClr val="40458c"/>
                </a:solidFill>
                <a:latin typeface="Tahoma"/>
              </a:rPr>
              <a:t>b) 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l primo biennio entro il 25% dell'orario annuale delle lezioni per svolgere un ruolo integrativo e complementare rispetto al sistema dell'istruzione e della formazione professionale regionale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Nei regolamenti sono previsti elenchi nazionali per l</a:t>
            </a:r>
            <a:r>
              <a:rPr b="0" lang="it-IT" sz="1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500" spc="-1" strike="noStrike">
                <a:solidFill>
                  <a:srgbClr val="40458c"/>
                </a:solidFill>
                <a:latin typeface="Tahoma"/>
              </a:rPr>
              <a:t>attivazione di opzioni.</a:t>
            </a:r>
            <a:endParaRPr b="0" lang="en-US" sz="1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6529-A77F-4552-A3C0-0F9740DB7D5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European Qualifications Framework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Cornice europea di riferimento ad otto livelli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descritti in termini di competenze (non di titoli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Raccomandazione del Parlamento e del Consiglio Europeo del 23 aprile 2008 relativa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do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 a livello comunitario, stabilisce che entro il 2010 i paesi membri dovranno rapportare i propri sistemi nazionali di qualificazione a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,ed entro il 2012 dovranno indicare, nei singoli certificati di qualifica, un riferimento al livello corrispondent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QF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per quanto riguarda l</a:t>
            </a:r>
            <a:r>
              <a:rPr b="0" i="1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700" spc="-1" strike="noStrike">
                <a:solidFill>
                  <a:srgbClr val="40458c"/>
                </a:solidFill>
                <a:latin typeface="Tahoma"/>
              </a:rPr>
              <a:t>ordinamento italiano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1 = diploma del 1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2 = obbligo di istruzion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3 = qualifica professional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46040" indent="-446040">
              <a:lnSpc>
                <a:spcPct val="80000"/>
              </a:lnSpc>
              <a:spcBef>
                <a:spcPts val="425"/>
              </a:spcBef>
              <a:buSzPct val="11309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EQF4 = diploma del 2° Ciclo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4" marL="19544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vedi DM 139/2007 (allegato tecnico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40458c"/>
                </a:solidFill>
                <a:latin typeface="Tahoma"/>
              </a:rPr>
              <a:t>DPR n. 122 del 22 giugno 2009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446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BA55-936B-43F6-99F6-851FC70AD57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 dipartimen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3000" spc="-1" strike="noStrike">
                <a:solidFill>
                  <a:srgbClr val="40458c"/>
                </a:solidFill>
                <a:latin typeface="Times New Roman"/>
              </a:rPr>
              <a:t>(si) 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possono costituire, senza nuovi o maggiori oneri per la finanza pubblica, dipartimenti, quali articolazioni funzionali del collegio dei docenti, per il sostegno alla progettazione formativa e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3000" spc="-1" strike="noStrike">
                <a:solidFill>
                  <a:srgbClr val="40458c"/>
                </a:solidFill>
                <a:latin typeface="Tahoma"/>
              </a:rPr>
              <a:t>alla didattica</a:t>
            </a:r>
            <a:r>
              <a:rPr b="0" i="1" lang="it-IT" sz="30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5F23-E9EB-433A-BD74-4EA053DAE4BA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dipartimen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i regolamenti non vengono date indicazioni sulle moda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rganizza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potesi possibil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rganizzazione per assi culturali (secondo le indicazioni del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bbligo di istruzion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 dipartimenti sono funzional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per competenze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a progettazione multidisciplinare e, per questo, di percorsi per il conseguimento delle competenze di cittadinanza come individuate in sede U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5CF6-09C2-44B8-B3E4-91C4C4FAACA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esto unico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delle leggi su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ruzione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.Lgs. 297/1994 (dall’art. 5 all’art. 15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elega al Governo per il conferimento di funzioni alle regioni e agli Enti locali per la riforma della P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59/97 (art. 21)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Conferimento di funzioni alle Regioni e agli Enti locali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t. 137, 138, 139,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.Lgs 112/98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golamento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utonomia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”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in attuazione dell</a:t>
            </a: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’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art. 21 della L. 59/97)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PR 275/99 (artt. 1, 3, 4, 5, 6, 7, 8, 9, 11, 14)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Costituzionale n. 3/2001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Titolo V, artt. 114,116, 117, 118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Riforma Moratti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53/2003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e Decreti Legislativi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 (sul primo ciclo, n. 59/04; su INVALSI, n. 286/04; su diritto-dovere a istruzione e formazione, n. 76/05; su alternanza scuola-lavoro, n. 77/05; sul secondo ciclo, n. 226/05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innalzamento obbligo di istruzione,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Arial Unicode MS"/>
              </a:rPr>
              <a:t>DM n. 139/2007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br>
              <a:rPr sz="1800"/>
            </a:b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(in attuazione comma 622 legge 296/06)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8375-7681-423B-8806-A9011920AA4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trumenti per le innovazioni: il Comitato tecnico scientifico 1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…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ossono dotarsi, senza nuovi o maggiori oneri per la finanza pubblica, di un comitato (tecnico) scientifico composto di docenti e di esperti del mondo del lavoro, delle professioni, della ricerca scientifica e tecnologica, delle univers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delle istituzioni di alta formazione artistica, musicale e coreutica, con funzioni </a:t>
            </a:r>
            <a:r>
              <a:rPr b="0" i="1" lang="it-IT" sz="2400" spc="-1" strike="noStrike">
                <a:solidFill>
                  <a:srgbClr val="ff0066"/>
                </a:solidFill>
                <a:latin typeface="Tahoma"/>
              </a:rPr>
              <a:t>consultive e di proposta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per 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ff0000"/>
                </a:solidFill>
                <a:latin typeface="Tahoma"/>
              </a:rPr>
              <a:t>organizzazione e l'utilizzazione degli spazi di autonomia e flessibilit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; ai componenti del comitato non spettano compensi a nessun titol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196D-2484-4E8C-ABE5-2C2D2CAEF73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Il Comitato tecnico scientific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Fa proposte, sulla scorta delle analisi dei bisogni del territorio, al consiglio di istituto, al dirigente e, per le materie di sua competenza, al collegio dei docenti  pe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tilizzazione degli spazi di autonomia e flessibilit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l'organizzazione delle aree di indirizz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1256-DB11-4678-9072-4D830A693B18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omitato tecnico scientifico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l recupero del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i laboratori anche come metodologia di base per tutte le discipline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centr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elle forme miste nei percorsi di studio: stage, tirocini, alternanza scuola-lavoro, non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ggiuntivi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alle lezioni e ai laboratori, ma integrate nel curricol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organizzazione in dipartimenti, fondamentale se si vuole realizzare una progettazione formativa per competenze, che richiede livelli elevati di ricerca e di progettazione. I dipartimenti dovrebbero supportare il lavoro dei docenti e dei consigli di classe, fornendo metodologie e strumenti di lavoro;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a possibi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per ogni istituto di stipulare contratti con esperti esterni per sviluppare competenze specialistiche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E7DE-95DD-4E9E-92DC-D99A32CA43A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’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fficio tec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Gli istituti professionali per il settore industria ed artigianato e gli istituti tecnici per il settore tecnologico sono dotati di un ufficio tecnico con il compito di sostenere la migliore organizzazione e funziona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dei laboratori a fini didattici e il loro adeguamento in relazione alle esigenze poste da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novazione tecnologica nonch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per la sicurezza delle persone e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mbient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apre una possi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concreta di costruire archivi di esperienze didattiche innovativ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86EC-5B87-4C43-9F71-99ABC59C5AC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mpetenze, abilit</a:t>
            </a:r>
            <a:r>
              <a:rPr b="0" lang="it-IT" sz="2900" spc="-1" strike="noStrike">
                <a:solidFill>
                  <a:srgbClr val="660066"/>
                </a:solidFill>
                <a:latin typeface="Times New Roman"/>
              </a:rPr>
              <a:t>à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, conoscenze</a:t>
            </a:r>
            <a:endParaRPr b="0" lang="en-US" sz="29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20600" y="1714680"/>
            <a:ext cx="755496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mpet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omprovata 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usare conoscenze ed abil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in modo autonomo in situazioni di lavoro o di studio e nello sviluppo personale o professional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abilit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capacit</a:t>
            </a:r>
            <a:r>
              <a:rPr b="0" i="1" lang="it-IT" sz="25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 di applicare conoscenze per portare a termine compiti e risolvere problem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lnSpc>
                <a:spcPct val="90000"/>
              </a:lnSpc>
              <a:spcBef>
                <a:spcPts val="624"/>
              </a:spcBef>
              <a:buSzPct val="1132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conoscenze: </a:t>
            </a:r>
            <a:r>
              <a:rPr b="0" i="1" lang="it-IT" sz="2500" spc="-1" strike="noStrike">
                <a:solidFill>
                  <a:srgbClr val="40458c"/>
                </a:solidFill>
                <a:latin typeface="Tahoma"/>
              </a:rPr>
              <a:t>fatti, principi, teorie relativi al settore di studio o di lavoro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marL="441360"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CEFC-F1DC-4138-89D3-AF3995072F1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obbligo di istruzione: 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gli assi cultural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no 4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dei linguagg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lingua madre, lingua straniera, multimedi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matemat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ritmetica, algebra, geometria, rappresentazioni grafiche, </a:t>
            </a: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problem solv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cientifico-tecnologic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cienze naturali, trasformazioni di energia, rapporti fra tecnologie ed ambiente, applicazioni informatich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asse storico-socia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-3873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storia, economia, cittadinanz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40458c"/>
                </a:solidFill>
                <a:latin typeface="Tahoma"/>
              </a:rPr>
              <a:t>riferimento: decreto ministeriale n. 139/07</a:t>
            </a: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  <a:p>
            <a:pPr lvl="2" marL="1278720" indent="0" algn="r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4E67-C1A4-45A7-8778-30294A050E2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raccomandazioni europee:</a:t>
            </a:r>
            <a:br>
              <a:rPr sz="4200"/>
            </a:b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le competenze chiave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6760" y="2160720"/>
            <a:ext cx="692928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a madrelingu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unicazione nelle lingue stranie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matematica e competenze di  base scientifiche e tecnolog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spcAft>
                <a:spcPts val="862"/>
              </a:spcAft>
              <a:buSzPct val="11326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a digit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mpetenze sociali e civich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enso di iniziativa ed imprenditori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consapevolezza ed espressione cultural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prime quattro sono legate ai saper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SzPct val="11326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le altre quattro al saper essere e saper far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0852-7461-4326-9684-5BD1C4851A9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Imparare ad impar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organizzare il proprio apprendimento, individuando, scegliendo ed utilizzando varie fonti e varie mod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informazione e di formazione (formale, non formale ed informale), anche in funzione dei tempi disponibili, delle proprie strategie e del proprio metodo di studio e di lavoro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Proget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: elaborare e realizzare progetti riguardanti lo sviluppo delle propri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 studio e di lavoro, utilizzando le conoscenze apprese per stabilire obiettivi significativi e realistici e le relative prior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valutando i vincoli e le possibi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sistenti, definendo strategie di azione e verificando i risultati raggiunti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municar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comprende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messaggi di genere diverso (quotidiano, letterario, tecnico, scientifico) e di compless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diversa, trasmessi utilizzando linguaggi diversi (verbale, matematico, scientifico, simbolico, ecc.) mediante diversi supporti (cartacei, informatici e multimediali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   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rappresentar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eventi, fenomeni, principi, concetti, norme, procedure, atteggiamenti, stati d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nimo, emozioni, ecc. utilizzando linguaggi diversi (verbale, matematico, scientifico, simbolico, ecc.) e diverse conoscenze disciplinari, mediante diversi supporti (cartacei, informatici e multimediali).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40458c"/>
                </a:solidFill>
                <a:latin typeface="Tahoma"/>
              </a:rPr>
              <a:t>Collaborare e partecipare:</a:t>
            </a:r>
            <a:r>
              <a:rPr b="0" i="1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interagire in gruppo, comprendendo i diversi punti di vista, valorizzando le proprie e le altrui capac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gestendo la conflittual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, contribuendo all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apprendimento comune ed alla realizzazione delle attivit</a:t>
            </a: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collettive, nel riconoscimento dei diritti fondamentali degli altri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BD8B-FC5B-434D-B20A-C3BEF8010E9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Allegato 2 del regolamento DM 139/2007</a:t>
            </a:r>
            <a:br>
              <a:rPr sz="3300"/>
            </a:b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e competenze di cittadinanza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gire in modo autonomo e responsabil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sapersi inserire in modo attivo e consapevole nella vita sociale e far valere al suo interno i propri diritti e bisogni riconoscendo al contempo quelli altrui, le opportun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comuni, i limiti, le regole, le responsa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Risolvere problem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ffrontare situazioni problematiche costruendo e verificando ipotesi, individuando le fonti e le risorse adeguate, raccogliendo e valutando i dati, proponendo soluzioni utilizzando, secondo il tipo di problema, contenuti e metodi delle diverse discipline.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viduare collegamenti e relazioni: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dividuare e rappresentare, elaborando argomentazioni coerenti, collegamenti e relazioni tra fenomeni, eventi e concetti diversi, anche appartenenti a diversi ambiti disciplinari, e lontani nello spazio e nel tempo, cogliendone la natura sistemica, individuando analogie e differenze, coerenze ed incoerenze, cause ed effetti e la loro natura probabilistica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Acquisire ed interpretare l</a:t>
            </a:r>
            <a:r>
              <a:rPr b="1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formazion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acquisire ed interpretare criticamente l'informazione ricevuta nei diversi ambiti ed attraverso diversi strumenti comunicativi, valutandon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endib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e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utilit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, distinguendo fatti e opinion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12F3-BC11-4515-A087-FD10D697AB35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9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324000" y="260280"/>
            <a:ext cx="770544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0A42-AAB6-4292-ADB6-7E24CA9D79C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❒ </a:t>
            </a:r>
            <a:r>
              <a:rPr b="1" lang="it-IT" sz="19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Arial Unicode MS"/>
                <a:ea typeface="Arial Unicode MS"/>
              </a:rPr>
              <a:t>R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forma istruzione tecnica: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n. 40/2007 art. 1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DPCM 25 gennaio 2008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recante linee guida per la riorganizzazione del Sistema di istruzione e formazione tecnica superiore e la costituzione degli Istituti Tecnici Superior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25 giugno 2008, n. 112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6 agosto 2008, n. 133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  urgenti  per  lo  sviluppo  economico,  la semplificazione,  la competitiv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la stabilizzazione della finanza pubblica e la perequazione tributaria.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art. 64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comma, 3 del DL, prevede un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Piano programmat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del Ministe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truzione,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nivers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della Ricerca di concerto con il Ministro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conomia e delle Finanze (predisposto il 4 settembre 2008)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❒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ecreto-Legge 1 settembre 2008, n. 137 </a:t>
            </a:r>
            <a:r>
              <a:rPr b="1" i="1" lang="it-IT" sz="18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gge di conversione 30 ottobre 2008, n. 169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Disposizioni urgenti in materia di istruzione e universit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1800"/>
            </a:b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(maestro unico, valutazione in decimi, voto di condotta, libri di testo).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2F11-23A6-4FCB-98F3-19361ABE1D7C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2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0" y="0"/>
            <a:ext cx="835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4FF6-69E9-4DE5-84FB-862545CE7A7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vel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bas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semplici in situazioni note,mostrando di possedere conoscenze ed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ssenziali e di saper applicare regole e procedure fondamentali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Nel caso in cui non sia stato raggiunto il livello base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riportata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spression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ivello base non raggiun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con l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icazione della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tiva motivazi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intermedi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: lo studente svolge compiti e risolve problemi complessi in situazioni note, compie scelte consapevoli, mostrando di saper utilizzare le conoscenze e 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cquisit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Livello avanzato: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lo studente svolge compiti e problemi complessi in situazioni anche non note, mostrando padronanza n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uso delle conoscenze e delle abi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 Sa proporre e sostenere le proprie opinioni e assumere autonomamente decisioni consapevo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9920-8A47-45DA-99D8-3F8659C39B60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dicazioni nazionali per i Licei e Linee guida per IT e IP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08372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Indicazioni nazionali per i Licei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riferimento alla Legge 53/03 e al D.Lgs 226/05 che viene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riordinato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58c"/>
                </a:solidFill>
                <a:latin typeface="Tahoma"/>
              </a:rPr>
              <a:t>- Linee guida per IT e IP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: per l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attuazione della Legge 40/200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Non ci sono p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ù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programmi ministeriali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sulle discipline di insegnament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l MIUR d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Indicazioni alle scuole (profili, obiettivi generali, obiettivi specifici) sui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risultati di apprendimento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 descritti per: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mpetenze</a:t>
            </a: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(per 1° biennio, 2° biennio, 5° anno, con l</a:t>
            </a:r>
            <a:r>
              <a:rPr b="0" lang="it-IT" sz="17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700" spc="-1" strike="noStrike">
                <a:solidFill>
                  <a:srgbClr val="40458c"/>
                </a:solidFill>
                <a:latin typeface="Tahoma"/>
              </a:rPr>
              <a:t>indicazione delle discipline che concorrono al loro raggiungimento)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4b34f4"/>
                </a:solidFill>
                <a:latin typeface="Tahoma"/>
              </a:rPr>
              <a:t>attraverso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 e 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conoscenze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- I docenti individuano i percorsi formativi (conoscenze correlate alle abilit</a:t>
            </a:r>
            <a:r>
              <a:rPr b="1" lang="it-IT" sz="1700" spc="-1" strike="noStrike">
                <a:solidFill>
                  <a:srgbClr val="ff0000"/>
                </a:solidFill>
                <a:latin typeface="Times New Roman"/>
              </a:rPr>
              <a:t>à</a:t>
            </a:r>
            <a:r>
              <a:rPr b="1" lang="it-IT" sz="1700" spc="-1" strike="noStrike">
                <a:solidFill>
                  <a:srgbClr val="ff0000"/>
                </a:solidFill>
                <a:latin typeface="Tahoma"/>
              </a:rPr>
              <a:t>) per il conseguimento delle competenze indicate.</a:t>
            </a: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DB4F-812D-498E-BB36-C108539E434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percorsi degli IT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si realizzano attraverso metodologie finalizzate a sviluppare, con particolare riferimento a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agli insegnamenti di indirizzo, competenze basate sulla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didattica di laboratorio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300" spc="-1" strike="noStrike">
                <a:solidFill>
                  <a:srgbClr val="f04010"/>
                </a:solidFill>
                <a:latin typeface="Tahoma"/>
              </a:rPr>
              <a:t>l'analisi e la soluzione dei problemi, il lavoro per progetti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; sono orientati alla gestione di processi in contesti organizzati e all'uso di modelli e linguaggi specifici; sono strutturati in modo da favorire un collegamento organico con il mondo del lavoro e delle professioni, compresi il volontariato ed il privato sociale. Stage, tirocini e alternanza scuola lavoro sono strumenti didattici per la realizzazione dei percorsi di studio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.(art. 5, c. 2/e)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FF94-E33B-4D42-94B6-95A91F97311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aboratori e laboratorialit</a:t>
            </a:r>
            <a:r>
              <a:rPr b="0" lang="it-IT" sz="4400" spc="-1" strike="noStrike">
                <a:solidFill>
                  <a:srgbClr val="660066"/>
                </a:solidFill>
                <a:latin typeface="Times New Roman"/>
              </a:rPr>
              <a:t>à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I percorsi liceali forniscono allo studente gli strumenti culturali e metodologici per una comprensione approfondita della real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, affinch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é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gli si ponga, con atteggiamento razionale,creativo,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progettual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critico, di fronte alle situazioni, ai fenomeni e ai problemi, ed acquisisca 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conoscenze, abilit</a:t>
            </a:r>
            <a:r>
              <a:rPr b="0" i="1" lang="it-IT" sz="2400" spc="-1" strike="noStrike">
                <a:solidFill>
                  <a:srgbClr val="f04010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f04010"/>
                </a:solidFill>
                <a:latin typeface="Tahoma"/>
              </a:rPr>
              <a:t> e competenze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coerenti con le capacit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 e le scelte personali e adeguate al proseguimento degli studi di ordine superiore, all'inserimento nella vita sociale e nel mondo del lavoro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.(art. 2, c.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C213-D442-4A85-9017-898395F8396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etodologie innovati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didattica laboratoriale e in laborator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analisi e soluzione dei proble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04010"/>
                </a:solidFill>
                <a:latin typeface="Tahoma"/>
              </a:rPr>
              <a:t>lavoro per proget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tirocini e alternanza scuola lavor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cooperative lear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uso di tecnologie avanz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4380-9C7D-485E-98C0-BF386BBD5EA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660066"/>
                </a:solidFill>
                <a:latin typeface="Tahoma"/>
              </a:rPr>
              <a:t>CLIL - </a:t>
            </a:r>
            <a:r>
              <a:rPr b="0" lang="it-IT" sz="2900" spc="-1" strike="noStrike">
                <a:solidFill>
                  <a:srgbClr val="660066"/>
                </a:solidFill>
                <a:latin typeface="Tahoma"/>
              </a:rPr>
              <a:t>Content and Language Integrated Learning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i Lice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Fatto salvo quanto stabilito specificamente per il percorso del liceo linguistico*, nel quinto ann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impartito l'insegnamento, in lingua straniera, di una disciplina non linguistica compresa nell'area delle attivit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e degli insegnamenti obbligatori per tutti gli studenti o nell'area degli insegnamenti attivabili dalle istituzioni scolastiche nei limiti del contingente di organico ad esse annualmente assegnato . Tale insegnamento 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 attivato in ogni caso nei limiti degli organici determinati a legislazione vigente</a:t>
            </a:r>
            <a:r>
              <a:rPr b="0" i="1" lang="it-IT" sz="23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Negli IT la lingua che si utilizza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nglese ed 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è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scelta tra quelle dell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ea di indirizzo del quinto ann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Nei licei linguistici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si inizia dal primo anno del secondo bienn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2700-758E-4E7E-B12F-B082DA625CB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660066"/>
                </a:solidFill>
                <a:latin typeface="Tahoma"/>
              </a:rPr>
              <a:t>quadro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21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spcAft>
                <a:spcPts val="938"/>
              </a:spcAft>
              <a:buSzPct val="14480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cuola del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fanzia: 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re anni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SzPct val="14480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1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primaria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scuola secondaria di primo grado: 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tr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traguardi di competenza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Pubblicata (nov 2012) la revisione delle Indicazioni per il 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curricolo per la scuola dell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infanzia e il primo ciclo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2° ciclo: 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cinque anni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lvl="1" marL="678240" indent="-340560">
              <a:lnSpc>
                <a:spcPct val="80000"/>
              </a:lnSpc>
              <a:spcBef>
                <a:spcPts val="67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700" spc="-1" strike="noStrike">
                <a:solidFill>
                  <a:srgbClr val="40458c"/>
                </a:solidFill>
                <a:latin typeface="Times New Roman"/>
              </a:rPr>
              <a:t>“</a:t>
            </a:r>
            <a:endParaRPr b="0" lang="en-US" sz="27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sono individuati i 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900" spc="-1" strike="noStrike">
                <a:solidFill>
                  <a:srgbClr val="40458c"/>
                </a:solidFill>
                <a:latin typeface="Tahoma"/>
              </a:rPr>
              <a:t>risultati di apprendimento</a:t>
            </a:r>
            <a:r>
              <a:rPr b="0" i="1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ADD7-7B09-42AA-B3DA-41923ABDF74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lice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I </a:t>
            </a:r>
            <a:r>
              <a:rPr b="1" lang="it-IT" sz="2300" spc="-1" strike="noStrike">
                <a:solidFill>
                  <a:srgbClr val="40458c"/>
                </a:solidFill>
                <a:latin typeface="Tahoma"/>
              </a:rPr>
              <a:t>licei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ono sei, con indirizzi e opzioni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artistico con sei indirizzi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ti figurativ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rchitettura e ambien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Design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Audiovisivo e multimedial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Grafic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Scenograf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class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linguis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musicale e coreutico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tifico con opzione scienze applicate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- scienze umane con opzione economico-sociale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AED0-81B3-4A57-BD50-C91006CD8CB3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Tecnic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con undic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econom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mministrazione, Finanza e Marketing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Relazioni internazionali per il Marketing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istemi informativi aziendali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urism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tecnologic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nov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eccanica, Meccatronica ed Energi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Meccanica e mecca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d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erg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rasporti e Logist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str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Conduzione del mezz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Log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lettronica ed Elettro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lettrotecn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utomazione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3CB8-9BEC-49EA-B7AF-CDB1EB26D29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85520" y="1904760"/>
            <a:ext cx="7824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	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PR n. 81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  <a:ea typeface="Arial Unicode MS"/>
              </a:rPr>
              <a:t>del 20.03.2009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  <a:ea typeface="Arial Unicode MS"/>
              </a:rPr>
              <a:t>,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golamento su </a:t>
            </a:r>
            <a:r>
              <a:rPr b="0" lang="it-IT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Norme per la riorganizzazione della rete scolastica e il razionale ed efficace utilizzo delle risorse umane della scuola, ai sensi dell</a:t>
            </a:r>
            <a:r>
              <a:rPr b="0" i="1" lang="it-IT" sz="24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articolo 64, comma 4, del decreto legge 25 giugno 2008, n. 112, convertito con modificazioni della legge 6 agosto 2008, 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n.133</a:t>
            </a:r>
            <a:r>
              <a:rPr b="1" i="1" lang="it-IT" sz="24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1" i="1" lang="it-IT" sz="24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4CF9-A5B4-44CA-B16C-0F6625331AC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tecnici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Informatica e Telecomunicazion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Informatic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lecomunic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rafica e Comunicazione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himica, Materiali e Biotecnologi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himica e materi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ambiental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Biotecnologie sanitarie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Sistema Mo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Tessile, abbigliamento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Calzature e mod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graria, Agroalimentare e Agroindustri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Produzioni e trasformazioni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stione dell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ambiente e del territori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Viticoltura ed enologia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struzioni, Ambiente e Territori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rticolazione: 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Geotecnico</a:t>
            </a:r>
            <a:r>
              <a:rPr b="0" i="1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CB95-3D87-4471-B888-CA889C7D3D3D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Gli 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li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ono organizzati in due settori e sei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 serviz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quattro indirizz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gricoltura e lo sviluppo rura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Socio sanitari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 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dontotecn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 ausiliarie delle professioni sanitarie, Ottic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er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enogastronomia e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spit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alberghie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Enogastronom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Servizi di sala e di vendit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ccoglienza turistic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ommerc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Settor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Industria e artigianat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con due indirizzi (con articolazioni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roduzioni artigianali e industrial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rticolazioni: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Industria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i="1" lang="it-IT" sz="1800" spc="-1" strike="noStrike">
                <a:solidFill>
                  <a:srgbClr val="40458c"/>
                </a:solidFill>
                <a:latin typeface="Tahoma"/>
              </a:rPr>
              <a:t>Artigianato</a:t>
            </a:r>
            <a:r>
              <a:rPr b="0" i="1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•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anutenzione e assistenza tecnic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C3BE-EA8C-45C3-B3A4-A44F8824D30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B898-A1CA-40AC-B89C-03CD2EFC5CC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660066"/>
                </a:solidFill>
                <a:latin typeface="Arial"/>
                <a:ea typeface="Lucida Sans Unicode"/>
              </a:rPr>
              <a:t>Obbligo e diritto-dover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bbligo di istruzione: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fino a 16 anni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466560" indent="-46656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l 1° biennio del secondo ciclo, </a:t>
            </a:r>
            <a:r>
              <a:rPr b="0" i="1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oppure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 </a:t>
            </a:r>
            <a:br>
              <a:rPr sz="1900"/>
            </a:b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nei percorsi di istruzione e formazione professionale (in attuazione del capo III del D.Lgs 226/05 e dell’Intesa del 16 dic 2010)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61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-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ei percorsi formativi previsti dalla legge sull’apprendistato 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innalzata l’età di accesso a 16 anni da Legge finanziaria 2007, è stato approvato nella Legge n.183/2010, “Collegato al lavoro”, un ritorno alla soglia minima di 15 anni, con compimento di obbligo nei percorsi per apprendistato, disposizione confermata nel </a:t>
            </a:r>
            <a:r>
              <a:rPr b="1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TU 167/2011</a:t>
            </a:r>
            <a:r>
              <a:rPr b="0" lang="it-IT" sz="1800" spc="-1" strike="noStrike">
                <a:solidFill>
                  <a:srgbClr val="40458c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587"/>
              </a:spcAft>
              <a:tabLst>
                <a:tab algn="l" pos="0"/>
                <a:tab algn="l" pos="46656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50360"/>
                <a:tab algn="l" pos="9883800"/>
                <a:tab algn="l" pos="10333080"/>
                <a:tab algn="l" pos="1078236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Arial Unicode MS"/>
                <a:ea typeface="Lucida Sans Unicode"/>
              </a:rPr>
              <a:t>Vige il D.Lgs 76/2005 su “Diritto – Dovere a istruzione e formazione professionale” per il quale si resta in formazione fino a 18 anni (salvo conseguimento di qualifica professionale entro i 18 anni)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BFC7-7F9E-4C32-83EB-7FBA01B7F1A2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ahoma"/>
              </a:rPr>
              <a:t>titoli di studio e qualifiche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tecnic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Istituti professionali rilasciano diplom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ahoma"/>
              </a:rPr>
              <a:t>Licei rilasciano diplomi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Gli istituti professionali rilasciano diplomi quinquennali; in sussidiarie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con le Regioni, possono rilasciare qualifiche triennali o diplomi professionali quadriennali (compresi nel repertorio nazionale di cui alla Legge 40/07) secondo le due modali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 del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ntesa del 16 dic 2010: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- offerta sussidiaria integrativ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- offerta sussidiaria complementa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lo per gli iscritti alle classi prime del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.s. 2010-11 vige il regime surrogatorio (si rilasciano ancora qualifiche triennali)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utti i diplomi danno accesso agli studi superiori universitari o tecnici (Istituti Tecnici Superiori) e al mondo del lavor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Riferimento obbligatorio (entro il 2012) al sistema EQF: European Qualifications Framework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F2AE-4F4D-4272-AF23-6CB19AB6122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Intesa Stato-Regioni 16 dicembre 2010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Si definiscono i rapporti tra istituti professionali e istruzione e formazione professionale di competenza regionale.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it-IT" sz="25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intes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riguarda 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dozione di linee-guida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ttua una previsione legislativa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legge 2 aprile 2007, n. 40 art. 13.1.5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consente di conseguire </a:t>
            </a:r>
            <a:r>
              <a:rPr b="0" i="1" lang="it-IT" sz="2200" spc="-1" strike="noStrike">
                <a:solidFill>
                  <a:srgbClr val="40458c"/>
                </a:solidFill>
                <a:latin typeface="Tahoma"/>
              </a:rPr>
              <a:t>qualifich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egli istituti professionali di st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integrativ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40458c"/>
                </a:solidFill>
                <a:latin typeface="Tahoma"/>
              </a:rPr>
              <a:t>in regime complementa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40458c"/>
                </a:solidFill>
                <a:latin typeface="Tahoma"/>
              </a:rPr>
              <a:t>la decisione spetta a ciascuna Regio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202A-4DB0-4202-A2C9-3F5FF617E2A7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CM 101 del 30 dicembre 2010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Tipologia A </a:t>
            </a:r>
            <a:r>
              <a:rPr b="1" lang="it-IT" sz="22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offerta sussidiaria integrativa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Gli studenti che chiedono di iscriversi alla classe prima degli indirizzi quinquennali degli istituti professionali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1 possono contestualmente chiedere anche di poter conseguire una qualifica professionale di cui all</a:t>
            </a:r>
            <a:r>
              <a:rPr b="0" lang="it-IT" sz="22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allegato 2 a conclusione del terzo anno. A tal fine, gli istituti professionali propongono agli studenti e alle loro famiglie i percorsi di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qualifica corrispondenti, in base a quanto previsto dalla tabella allegato n. 3, a quelli realizzati nel corrente anno scolastic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C97E-1224-45B5-9746-0AA4B829540F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stituti profession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tipologia B 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offerta sussidiaria complementare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(Linee guida, capo II, punto 2)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Tale tipologia può trovare attuazione solo qualora il competente Assessorato regionale decida, in attu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accordo territoriale col competente USR per la prima attuazione delle linee guida, di attivare presso gli istituti professionali classi prime che assumano gli standard formativi e la regolamentazione del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ordinamento dei percorsi triennali di IeFP.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n tale caso possono iscriversi a detti corsi gli studenti che intendano conseguire solo i titoli di qualifica triennali di cui al Capo II, punto 2, delle Linee guida. L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scrizione ai citati percorsi avverr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secondo modalit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e procedure operative da concordare sulla base delle indicazioni che le singole Regioni forniranno</a:t>
            </a:r>
            <a:r>
              <a:rPr b="0" lang="it-IT" sz="18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987E-8F30-454C-8E16-0108E098FF04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Segnaposto numero diapositiva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660066"/>
                </a:solidFill>
                <a:latin typeface="Tahoma"/>
              </a:rPr>
              <a:t>Gli ordinamenti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33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0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0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7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professional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8, 15 marzo 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norme concernenti il riordino degl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istituti tecnici 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40458c"/>
                </a:solidFill>
                <a:latin typeface="Tahoma"/>
                <a:ea typeface="Arial Unicode MS"/>
              </a:rPr>
              <a:t>❒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DPR n. 89, 15 marzo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1900" spc="-1" strike="noStrike">
                <a:solidFill>
                  <a:srgbClr val="ff0000"/>
                </a:solidFill>
                <a:latin typeface="Tahoma"/>
              </a:rPr>
              <a:t>2010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 recante 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Revisione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ssetto ordinamentale, organizzativo e didattico dei </a:t>
            </a:r>
            <a:r>
              <a:rPr b="1" lang="it-IT" sz="1900" spc="-1" strike="noStrike">
                <a:solidFill>
                  <a:srgbClr val="40458c"/>
                </a:solidFill>
                <a:latin typeface="Tahoma"/>
              </a:rPr>
              <a:t>licei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, ai sensi dell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’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art. 64, comma 4, del decreto legge 25 giugno 2008 n. 112, convertito dalla legge 6 agosto 2008, n. 133</a:t>
            </a:r>
            <a:r>
              <a:rPr b="0" lang="it-IT" sz="1900" spc="-1" strike="noStrike">
                <a:solidFill>
                  <a:srgbClr val="40458c"/>
                </a:solidFill>
                <a:latin typeface="Times New Roman"/>
              </a:rPr>
              <a:t>”</a:t>
            </a:r>
            <a:r>
              <a:rPr b="0" lang="it-IT" sz="19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8BC2-E5B0-47C3-98D6-6516AF26AE7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74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innovazioni e nuovi punti di riferi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624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40458c"/>
                </a:solidFill>
                <a:latin typeface="Tahoma"/>
              </a:rPr>
              <a:t>innovazioni strutturali dei regolamenti di riordino del primo e del secondo ciclo</a:t>
            </a:r>
            <a:r>
              <a:rPr b="0" lang="it-IT" sz="25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460080" indent="-460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autonomia e flessibilit</a:t>
            </a:r>
            <a:r>
              <a:rPr b="0" lang="it-IT" sz="2600" spc="-1" strike="noStrike">
                <a:solidFill>
                  <a:srgbClr val="40458c"/>
                </a:solidFill>
                <a:latin typeface="Times New Roman"/>
              </a:rPr>
              <a:t>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quadro europeo delle qualifich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dipartimenti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itato tecnico-scientif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ufficio tecnic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competenze, abilità, conoscenz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laboratori e laboratorialità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segnamento in lingua straniera di una disciplina non linguistica (CLIL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889560" indent="-427320">
              <a:lnSpc>
                <a:spcPct val="8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58c"/>
                </a:solidFill>
                <a:latin typeface="Tahoma"/>
              </a:rPr>
              <a:t>integrazion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904E-5498-487D-BB4E-E6210CADF12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660066"/>
                </a:solidFill>
                <a:latin typeface="Tahoma"/>
              </a:rPr>
              <a:t>Un punto chiave dei nuovi ordinamenti: la quota di autonomia</a:t>
            </a:r>
            <a:endParaRPr b="0" lang="en-US" sz="3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84240" y="2020680"/>
            <a:ext cx="7556400" cy="44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500" spc="-1" strike="noStrike">
                <a:solidFill>
                  <a:srgbClr val="40458c"/>
                </a:solidFill>
                <a:latin typeface="Tahoma"/>
              </a:rPr>
              <a:t>le origini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ahoma"/>
              </a:rPr>
              <a:t>DM n. 234 del 26.06.2000 (regol. art. 8 DPR 275/99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0" i="1" lang="it-IT" sz="2300" spc="-1" strike="noStrike">
                <a:solidFill>
                  <a:srgbClr val="40458c"/>
                </a:solidFill>
                <a:latin typeface="Tahoma"/>
              </a:rPr>
              <a:t>Quota nazionale e quota riservata alle istituzioni scolastiche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85% quota nazionale obbligatoria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15% quota riservata alle scuole da utilizzare per: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Finali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uove discipline; 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personalizzazione dei curricoli; valorizzazione del merito, potenziamento, sostegno e recupero nelle difficolt</a:t>
            </a:r>
            <a:r>
              <a:rPr b="0" lang="it-IT" sz="2300" spc="-1" strike="noStrike">
                <a:solidFill>
                  <a:srgbClr val="40458c"/>
                </a:solidFill>
                <a:latin typeface="Times New Roman"/>
              </a:rPr>
              <a:t>à</a:t>
            </a:r>
            <a:r>
              <a:rPr b="0" lang="it-IT" sz="2300" spc="-1" strike="noStrike">
                <a:solidFill>
                  <a:srgbClr val="40458c"/>
                </a:solidFill>
                <a:latin typeface="Tahoma"/>
              </a:rPr>
              <a:t> di apprendimento; laboratori, educazioni)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67DA-1424-43D7-97C0-EB159F352599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quota di autonom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…</a:t>
            </a:r>
            <a:r>
              <a:rPr b="1" i="1" lang="it-IT" sz="2800" spc="-1" strike="noStrike">
                <a:solidFill>
                  <a:srgbClr val="40458c"/>
                </a:solidFill>
                <a:latin typeface="Tahoma"/>
              </a:rPr>
              <a:t>la continuaz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DM 28 dic 2005 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(Ministro Moratt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80% quota nazionale obbligatoria (solo per II Ciclo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20% quota riservata alle scuole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disposizioni estese anche al 1° Ciclo dal </a:t>
            </a:r>
            <a:r>
              <a:rPr b="1" lang="it-IT" sz="2200" spc="-1" strike="noStrike">
                <a:solidFill>
                  <a:srgbClr val="40458c"/>
                </a:solidFill>
                <a:latin typeface="Tahoma"/>
              </a:rPr>
              <a:t>Decreto Ministeriale n. 47</a:t>
            </a:r>
            <a:r>
              <a:rPr b="0" lang="it-IT" sz="2200" spc="-1" strike="noStrike">
                <a:solidFill>
                  <a:srgbClr val="40458c"/>
                </a:solidFill>
                <a:latin typeface="Tahoma"/>
              </a:rPr>
              <a:t> del 13 giugno 2006 (Ministro Fioroni)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DPR n. 89 del 20.03.2009</a:t>
            </a: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Regolamento su Scuola dell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7030a0"/>
                </a:solidFill>
                <a:latin typeface="Tahoma"/>
              </a:rPr>
              <a:t>infanzia e primo Ciclo di istruzione</a:t>
            </a:r>
            <a:r>
              <a:rPr b="0" lang="it-IT" sz="2400" spc="-1" strike="noStrike">
                <a:solidFill>
                  <a:srgbClr val="7030a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17143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40458c"/>
                </a:solidFill>
                <a:uFillTx/>
                <a:latin typeface="Tahoma"/>
              </a:rPr>
              <a:t>Scuola secondaria di I gra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'orario annuale obbligatorio delle lezioni nella scuola secondaria di I grado e' di complessive 990 ore, corrispondente a 29 ore settimanali, piu' 33 ore annuali da destinare ad attivita' di approfondimento riferita agli insegnamenti di materie letterarie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D633-176B-455D-BD89-C9A77322A3AE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5:46:55Z</dcterms:created>
  <dc:creator> </dc:creator>
  <dc:description/>
  <cp:keywords/>
  <dc:language>en-US</dc:language>
  <cp:lastModifiedBy>Valued Acer Customer</cp:lastModifiedBy>
  <dcterms:modified xsi:type="dcterms:W3CDTF">2014-03-19T22:47:06Z</dcterms:modified>
  <cp:revision>27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40</vt:lpwstr>
  </property>
</Properties>
</file>